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0FED-1259-4779-8FDB-E88E2CB8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A77B-85A9-467D-890B-ACF34145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BFCB-D3DE-4B3E-9DD1-BA3DD34F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20AB-27AE-4490-8097-C2737462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231E1-EBCB-458A-9871-21BD7611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8DEEE-E1C4-40D7-A48C-E2666A37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4C10E-C182-494C-8FB8-4310BFD7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94194-C129-41B4-A978-0ED5A84B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1305E-F0C0-4266-9927-0D14B1D7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B997E-5584-46AB-AD22-494CADE7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CD267-D2C1-401F-AAB5-734E87D3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D20A-961B-4637-AE43-2BED8284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3C4C3-3B4F-4A1A-816D-1293E9FB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39856-B04C-4DDA-8A2D-8ACFFBFA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E5463-42CF-4426-9F0B-693A53C6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CCFE1-F527-4E5C-9220-73C6D5BD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5C181-48A5-4A4B-AE7E-29883665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9B240-2ACB-42E4-AB03-DC6196E4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46681-9C21-4EC9-8C52-387D3C4C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361A1-6719-42A2-9607-16C0EFB8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A2CD5-6D85-45FA-BBAE-A1BFA825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85BF5-805D-48D1-B30B-6C3F84B3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81C7-0A58-490A-87AA-EFE28732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0E746-E250-463D-9129-0529B007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3157F-6B4C-4E7E-B397-5EE4D89A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60E5B-7302-4C3B-B011-B09C7F2D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31DA4-6741-4C15-94E6-D7B29DE0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82E91-C520-4179-86F7-D475C0FF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FE1D5-6E30-4460-A43A-B9F1658C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AE200-E3E2-42B8-B023-BA8B4BC4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50B8F1-42DA-453E-9DB9-A1B46143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9FF600-6849-42CE-A731-D8D0DF48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481A80-1F61-4BF0-9C51-B0BFBB50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4952-3150-4390-881E-CBD220B3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D0E935-41FA-4254-9099-8EA6F4C3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5DD6F9-7E74-4423-B2BF-FB309ADC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EDAFB9-FD32-45D7-B339-3A782DE5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54693D-1E8E-4FCF-B837-C9D0D638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364735-7BFF-4E99-8E41-EC54B950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F14CB7-32B7-412C-8159-B8DB75A6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4737A1-8AF7-4947-962D-49EAD7C4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6EDE2A-D5C1-4F85-AB01-1379EA35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77C576-A511-460E-847F-AA46118D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A8C0-3274-42A1-AA51-44E3ED6C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6C4A-DD96-4D19-927C-05DD85A0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8B86-A20E-4547-BEBA-123B595E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0D46-B0DF-4E57-BB55-16742BB7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A0EB-BF00-4C75-8927-0449112E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A603-5E4E-4D96-B560-EDF89F1D2FBF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BB47-C342-4164-957E-039C4CAF458D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7D7C-386F-474C-A129-6D1D5B278A8F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8B46-33FD-4DD9-AC29-AA835DAFFAB2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4d26"/>
                </a:solidFill>
                <a:latin typeface="Constantia"/>
              </a:rPr>
              <a:t>Presented by: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4d26"/>
                </a:solidFill>
                <a:latin typeface="Constantia"/>
              </a:rPr>
              <a:t>Madison Lammon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4d26"/>
                </a:solidFill>
                <a:latin typeface="Constantia"/>
              </a:rPr>
              <a:t>and Kevin Gerber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208080" y="1427040"/>
            <a:ext cx="8796240" cy="1992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http://t2.gstatic.com/images?q=tbn:ANd9GcTkjvXw3j-75gkmWZ7JjgcVuHOFPEbP1tGpDROlVYFThvU4fzvddxmvugXC"/>
          <p:cNvPicPr/>
          <p:nvPr/>
        </p:nvPicPr>
        <p:blipFill>
          <a:blip r:embed="rId2"/>
          <a:stretch/>
        </p:blipFill>
        <p:spPr>
          <a:xfrm>
            <a:off x="3200400" y="4746600"/>
            <a:ext cx="27432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Title 6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Friends stay true through racism and slavery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Content Placeholder 8" descr="imagesCAC22QZR.jpg"/>
          <p:cNvPicPr/>
          <p:nvPr/>
        </p:nvPicPr>
        <p:blipFill>
          <a:blip r:embed="rId2"/>
          <a:stretch/>
        </p:blipFill>
        <p:spPr>
          <a:xfrm>
            <a:off x="4419720" y="914400"/>
            <a:ext cx="297648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0520" y="137124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0804"/>
                </a:solidFill>
                <a:latin typeface="Constantia"/>
              </a:rPr>
              <a:t>Well, I can tell you it made me all over trembly and feverish, too, to hear him, because I begun to get it through my head that he WAS most free – and who was to blame for it? Why, ME. I couldn't get that out of my conscience, no how nor no way. It got to troubling me so I couldn't rest; I couldn't stay still in one place. It hadn't ever come home to me before, what this thing was that I was doing. But now it did; and it stayed with me, and scorched me more and more. I tried to make out to myself that I warn't to blame, because I didn't run Jim off from his rightful owner; but it warn't no use, conscience up and says, every time, "But you knowed he was running for his freedom, and you could a paddled ashore and told somebody." That was so – I couldn't get around that noway. That was where it pinched. Pg. 89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0804"/>
                </a:solidFill>
                <a:latin typeface="Constantia"/>
              </a:rPr>
              <a:t>Jim was gone! I set up a shout- and then another- and then another one; and run this way and that way in the woods, whooping and screeching; but it warn’t no use- old Jim was gone. Then I set down and cried; I couldn’t help it.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0804"/>
                </a:solidFill>
                <a:latin typeface="Constantia"/>
              </a:rPr>
              <a:t>“</a:t>
            </a:r>
            <a:r>
              <a:rPr b="0" lang="en-US" sz="1600" spc="-1" strike="noStrike">
                <a:solidFill>
                  <a:srgbClr val="070804"/>
                </a:solidFill>
                <a:latin typeface="Constantia"/>
              </a:rPr>
              <a:t>All right, then, I’ll go to hell” – and tore it up. Pg 215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682560" y="-6480"/>
            <a:ext cx="7248600" cy="1231920"/>
          </a:xfrm>
          <a:prstGeom prst="rect">
            <a:avLst/>
          </a:prstGeom>
          <a:ln w="0">
            <a:noFill/>
          </a:ln>
        </p:spPr>
      </p:pic>
      <p:pic>
        <p:nvPicPr>
          <p:cNvPr id="178" name="final take of slide 3.wma" descr=""/>
          <p:cNvPicPr/>
          <p:nvPr/>
        </p:nvPicPr>
        <p:blipFill>
          <a:blip r:embed="rId2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1234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533520" y="15235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70804"/>
                </a:solidFill>
                <a:latin typeface="Constantia"/>
              </a:rPr>
              <a:t>Pooty soon I’ll  be a-shout’n for joy, en I’ll say, it’s all on accounts o’Huck; I’s a free man, en I couldn’t ever ben free ef it hadn’ ben for Huck; Huck done it. Jim won’t ever forgit you, Huck; you’s de bes’ fren’ Jim’s ever had;en you’s de only fren’ ole Jim’s got now.” pg.92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https://www.youtube.com/watch?v=Q1EVn0ncvSI (play until 2:20)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81" name="slide 4.wma" descr=""/>
          <p:cNvPicPr/>
          <p:nvPr/>
        </p:nvPicPr>
        <p:blipFill>
          <a:blip r:embed="rId2"/>
          <a:stretch/>
        </p:blipFill>
        <p:spPr>
          <a:xfrm>
            <a:off x="73915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0289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Poem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uck wants to turn Jim i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'Cause he's been taught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elping slaves is a si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ut Huck has a change of hear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nd now, to no o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e'll impar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e knowledge of his lif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nd Jim's innocen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ese buds will never part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Picture 8" descr="Huck_and_Jim"/>
          <p:cNvPicPr/>
          <p:nvPr/>
        </p:nvPicPr>
        <p:blipFill>
          <a:blip r:embed="rId1"/>
          <a:stretch/>
        </p:blipFill>
        <p:spPr>
          <a:xfrm>
            <a:off x="4572000" y="609480"/>
            <a:ext cx="3333600" cy="4762800"/>
          </a:xfrm>
          <a:prstGeom prst="rect">
            <a:avLst/>
          </a:prstGeom>
          <a:ln w="0">
            <a:noFill/>
          </a:ln>
        </p:spPr>
      </p:pic>
      <p:pic>
        <p:nvPicPr>
          <p:cNvPr id="186" name="Untitledslide poem.wma" descr=""/>
          <p:cNvPicPr/>
          <p:nvPr/>
        </p:nvPicPr>
        <p:blipFill>
          <a:blip r:embed="rId2"/>
          <a:stretch/>
        </p:blipFill>
        <p:spPr>
          <a:xfrm>
            <a:off x="79246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9144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riend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ot each other’s bac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ayed Tru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images.jpg"/>
          <p:cNvPicPr/>
          <p:nvPr/>
        </p:nvPicPr>
        <p:blipFill>
          <a:blip r:embed="rId2"/>
          <a:stretch/>
        </p:blipFill>
        <p:spPr>
          <a:xfrm>
            <a:off x="4191120" y="1447920"/>
            <a:ext cx="4495680" cy="4495680"/>
          </a:xfrm>
          <a:prstGeom prst="rect">
            <a:avLst/>
          </a:prstGeom>
          <a:ln w="0">
            <a:noFill/>
          </a:ln>
        </p:spPr>
      </p:pic>
      <p:pic>
        <p:nvPicPr>
          <p:cNvPr id="190" name="last slide.wma" descr=""/>
          <p:cNvPicPr/>
          <p:nvPr/>
        </p:nvPicPr>
        <p:blipFill>
          <a:blip r:embed="rId3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7287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0880" y="1066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er, Luv. "Poem about Life : Huckleberry Finn Summarization Poem (English Project)." 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Poems &amp; Quotes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. Poems and Quotes, 1 Jan. 2009-2012. Web. 26 Jan. 2012. &lt;http://www.poems-and-quotes.com/misc/poems.php?id=1025848&gt;."Huckleberry Finn &amp; Zombie Jim « Nic Klein Blog." 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Nic Klein Blog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. Web. 23 Jan. 2012. &lt;http://nicklein.wordpress.com/2011/03/12/huckleberry-finn-zombie-jim/&gt;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"Media Absurdity » Blog Archive » The PC Huck Finn without the ‘N’ Word." 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Media Absurdity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. Web. 20 Jan. 2012. &lt;http://mediaabsurdity.com/2011/01/05/the-pc-huck-finn-without-the-n-word/&gt;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"The Adventures of Huckleberry Finn and His Friend, S-word Jim - Kevin Marshall's America - Timesunion.com - Albany NY." 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Times Union Blogs - Timesunion.com - Albany NY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. Web. 20 Jan. 2012. &lt;http://blog.timesunion.com/marshall/s-word-jim/3208/&gt;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"YouTube - Broadcast Yourself." 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YouTube - Broadcast Yourself.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Web. 20 Jan. 2012. &lt;http://www.youtube.com/watch?feature=player_detailpage&gt;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Zara, I. "Elijah Wood Gets on Well with Mark Twain." 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Yareah Magazine. Literature and Arts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. Web. 26 Jan. 2012. &lt;http://yareah.com/?p=383&gt;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5:27:25Z</dcterms:created>
  <dc:creator> </dc:creator>
  <dc:description/>
  <dc:language>en-US</dc:language>
  <cp:lastModifiedBy> </cp:lastModifiedBy>
  <dcterms:modified xsi:type="dcterms:W3CDTF">2012-01-27T15:34:42Z</dcterms:modified>
  <cp:revision>21</cp:revision>
  <dc:subject/>
  <dc:title>Slide 1</dc:title>
</cp:coreProperties>
</file>